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8.jpeg" ContentType="image/jpeg"/>
  <Override PartName="/ppt/media/image8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844-5C5F-4F84-B48F-9D1B79E6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8B6-B307-469D-A732-DD63679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44D-0D86-4914-9538-FF1C2038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78C-42D8-467F-8DD3-5CF43694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DAF-05EE-4170-969B-4900452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E58-BD06-4457-B1CC-5397AAF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FBD-E640-47FD-92F3-AF9F894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3E9-C85E-4975-AD16-3A84BB7B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436-D4BA-45F9-BFA2-31E8CDA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74A-1255-4D0A-A774-E613874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47C-D8E8-4270-AF45-2620047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106-D07E-47E4-87F7-FDE25D2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176-7C7C-4672-B731-AC13969D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prov.vic.gov.au/forgottenfaces/images/Steamer.jpg&amp;imgrefurl=http://www.prov.vic.gov.au/forgottenfaces/goldfields.asp&amp;usg=__14VcG1-LtsugzNliCdEKGK1WaZU=&amp;h=321&amp;w=250&amp;sz=42&amp;hl=en&amp;start=1&amp;zoom=1&amp;itbs=1&amp;tbnid=iOuFXdpBLbr7TM:&amp;tbnh=118&amp;tbnw=92&amp;prev=/images%3Fq%3Dchinese%2Bon%2Bthe%2Bgoldfields%26hl%3Den%26safe%3Dactive%26gbv%3D2%26tbs%3Disch: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cultureandrecreation.gov.au/articles/goldrush/images/chinesegold1.jpg&amp;imgrefurl=http://www.cultureandrecreation.gov.au/articles/goldrush/&amp;usg=__Glhk1wNOFTWOX64Dd8SYMakmKP8=&amp;h=183&amp;w=150&amp;sz=5&amp;hl=en&amp;start=6&amp;zoom=1&amp;itbs=1&amp;tbnid=VTWL5JwxcEUzpM:&amp;tbnh=102&amp;tbnw=84&amp;prev=/images%3Fq%3Dchinese%2Bon%2Bthe%2Bgoldfields%26hl%3Den%26safe%3Dactive%26gbv%3D2%26tbs%3Disch: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oogle.com.au/imgres?imgurl=http://www.kidcyber.com.au/IMAGES/chinesemen.jpg&amp;imgrefurl=http://www.kidcyber.com.au/topics/goldchinese.htm&amp;usg=__HV9_BRA2Ix1CZBlemUBUXL2AoV0=&amp;h=191&amp;w=256&amp;sz=17&amp;hl=en&amp;start=2&amp;zoom=1&amp;itbs=1&amp;tbnid=EGbpq0CN4yNbYM:&amp;tbnh=83&amp;tbnw=111&amp;prev=/images%3Fq%3Dchinese%2Bon%2Bthe%2Bgoldfields%26hl%3Den%26safe%3Dactive%26gbv%3D2%26tbs%3Disch: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hyperlink" Target="http://www.tourism.vic.gov.au/piecesofvictoria/march_2009/i/Goldfields%20Cheese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www.google.com.au/imgres?imgurl=http://www.kidcyber.com.au/IMAGES/chineseman.jpg&amp;imgrefurl=http://www.kidcyber.com.au/topics/goldchinese.htm&amp;usg=__otAyBJJcxMh6cA1KzxeBOpcVekY=&amp;h=128&amp;w=86&amp;sz=3&amp;hl=en&amp;start=2&amp;zoom=1&amp;itbs=1&amp;tbnid=QZiHwx3-JRj_vM:&amp;tbnh=91&amp;tbnw=61&amp;prev=/images%3Fq%3Dchinese%2Bon%2Bthe%2Bgoldfields%2Bclothes%26hl%3Den%26safe%3Dactive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.au/imgres?imgurl=http://www.kidcyber.com.au/IMAGES/goldrushchinese_jupiter.jpg&amp;imgrefurl=http://www.kidcyber.com.au/topics/goldchinese.htm&amp;usg=__VSMmxia8eS5OWN7VhYDqqy4gB88=&amp;h=827&amp;w=488&amp;sz=284&amp;hl=en&amp;start=12&amp;zoom=1&amp;itbs=1&amp;tbnid=n0pvHnud3CFW6M:&amp;tbnh=144&amp;tbnw=85&amp;prev=/images%3Fq%3Dchinese%2Bon%2Bthe%2Bgoldfields%2Bclothes%26hl%3Den%26safe%3Dactive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elewis.com/images/Cradle.gif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vergreen-rentals.com/images/shovel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cairnsunlimited.com/images/i/gold_pan.jpg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expedition360.com/australia_lessons_history/rail_line_workers.jpg&amp;imgrefurl=http://www.expedition360.com/australia_lessons_history/&amp;usg=__WGjbo5FL_b8T_VJTwVbPeR1UGfI=&amp;h=259&amp;w=475&amp;sz=48&amp;hl=en&amp;start=8&amp;zoom=1&amp;itbs=1&amp;tbnid=bk9Rqe7tZC60JM:&amp;tbnh=70&amp;tbnw=129&amp;prev=/images%3Fq%3Dgoldfields%2Bchinese%2Btransport%26hl%3Den%26safe%3Dactive%26gbv%3D2%26tbs%3Disch:1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google.com.au/imgres?imgurl=http://www.digitaldesigncooktown.com/discovery/img/chinese_funeral.jpg&amp;imgrefurl=http://www.cooktowndiscoveryfestival.com.au/2010/node/19&amp;usg=__80oUScrEZXofRP8JibhEVulO7l4=&amp;h=600&amp;w=736&amp;sz=112&amp;hl=en&amp;start=9&amp;zoom=1&amp;itbs=1&amp;tbnid=SFSsVMrnn4iwbM:&amp;tbnh=115&amp;tbnw=141&amp;prev=/images%3Fq%3Dgoldfields%2Bchinese%2Btransport%26hl%3Den%26safe%3Dactive%26gbv%3D2%26tbs%3Disch: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finders.com.au/uploads/images/content_images/Gold%20NuggetP1000397a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ldnuggetshop.com/images/canadian-gold-nugget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844640"/>
            <a:ext cx="8423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mericanText"/>
              </a:rPr>
              <a:t>Chinese on the goldfiel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mericanText"/>
              <a:ea typeface="AmericanTex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5084640"/>
            <a:ext cx="813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mericanText"/>
              </a:rPr>
              <a:t>By Matthew Georg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mericanText"/>
              <a:ea typeface="AmericanTex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35280" y="3933720"/>
            <a:ext cx="1905120" cy="1114560"/>
          </a:xfrm>
          <a:prstGeom prst="rect">
            <a:avLst/>
          </a:prstGeom>
          <a:ln w="0">
            <a:noFill/>
          </a:ln>
        </p:spPr>
      </p:pic>
      <p:sp>
        <p:nvSpPr>
          <p:cNvPr id="48" name="SMARTPenAnnotation0"/>
          <p:cNvSpPr/>
          <p:nvPr/>
        </p:nvSpPr>
        <p:spPr>
          <a:xfrm>
            <a:off x="-281193840" y="-283949640"/>
            <a:ext cx="4232160" cy="1139760"/>
          </a:xfrm>
          <a:custGeom>
            <a:avLst/>
            <a:gdLst/>
            <a:ahLst/>
            <a:rect l="l" t="t" r="r" b="b"/>
            <a:pathLst>
              <a:path w="2666" h="718">
                <a:moveTo>
                  <a:pt x="96" y="0"/>
                </a:moveTo>
                <a:lnTo>
                  <a:pt x="93" y="0"/>
                </a:lnTo>
                <a:lnTo>
                  <a:pt x="92" y="1"/>
                </a:lnTo>
                <a:lnTo>
                  <a:pt x="91" y="6"/>
                </a:lnTo>
                <a:lnTo>
                  <a:pt x="89" y="28"/>
                </a:lnTo>
                <a:lnTo>
                  <a:pt x="84" y="56"/>
                </a:lnTo>
                <a:lnTo>
                  <a:pt x="80" y="78"/>
                </a:lnTo>
                <a:lnTo>
                  <a:pt x="78" y="88"/>
                </a:lnTo>
                <a:lnTo>
                  <a:pt x="61" y="174"/>
                </a:lnTo>
                <a:lnTo>
                  <a:pt x="57" y="190"/>
                </a:lnTo>
                <a:lnTo>
                  <a:pt x="46" y="230"/>
                </a:lnTo>
                <a:lnTo>
                  <a:pt x="41" y="250"/>
                </a:lnTo>
                <a:lnTo>
                  <a:pt x="37" y="269"/>
                </a:lnTo>
                <a:lnTo>
                  <a:pt x="32" y="305"/>
                </a:lnTo>
                <a:lnTo>
                  <a:pt x="27" y="331"/>
                </a:lnTo>
                <a:lnTo>
                  <a:pt x="10" y="412"/>
                </a:lnTo>
                <a:lnTo>
                  <a:pt x="9" y="424"/>
                </a:lnTo>
                <a:lnTo>
                  <a:pt x="8" y="435"/>
                </a:lnTo>
                <a:lnTo>
                  <a:pt x="6" y="456"/>
                </a:lnTo>
                <a:lnTo>
                  <a:pt x="2" y="478"/>
                </a:lnTo>
                <a:lnTo>
                  <a:pt x="0" y="499"/>
                </a:lnTo>
                <a:lnTo>
                  <a:pt x="0" y="502"/>
                </a:lnTo>
                <a:lnTo>
                  <a:pt x="1" y="504"/>
                </a:lnTo>
                <a:lnTo>
                  <a:pt x="2" y="505"/>
                </a:lnTo>
                <a:lnTo>
                  <a:pt x="3" y="506"/>
                </a:lnTo>
                <a:lnTo>
                  <a:pt x="4" y="506"/>
                </a:lnTo>
                <a:lnTo>
                  <a:pt x="6" y="506"/>
                </a:lnTo>
                <a:lnTo>
                  <a:pt x="8" y="505"/>
                </a:lnTo>
                <a:lnTo>
                  <a:pt x="22" y="503"/>
                </a:lnTo>
                <a:lnTo>
                  <a:pt x="86" y="503"/>
                </a:lnTo>
                <a:lnTo>
                  <a:pt x="715" y="503"/>
                </a:lnTo>
                <a:lnTo>
                  <a:pt x="823" y="506"/>
                </a:lnTo>
                <a:lnTo>
                  <a:pt x="867" y="510"/>
                </a:lnTo>
                <a:lnTo>
                  <a:pt x="915" y="515"/>
                </a:lnTo>
                <a:lnTo>
                  <a:pt x="1033" y="532"/>
                </a:lnTo>
                <a:lnTo>
                  <a:pt x="1090" y="540"/>
                </a:lnTo>
                <a:lnTo>
                  <a:pt x="1212" y="561"/>
                </a:lnTo>
                <a:lnTo>
                  <a:pt x="1289" y="574"/>
                </a:lnTo>
                <a:lnTo>
                  <a:pt x="1367" y="589"/>
                </a:lnTo>
                <a:lnTo>
                  <a:pt x="1431" y="599"/>
                </a:lnTo>
                <a:lnTo>
                  <a:pt x="1486" y="608"/>
                </a:lnTo>
                <a:lnTo>
                  <a:pt x="1613" y="632"/>
                </a:lnTo>
                <a:lnTo>
                  <a:pt x="1695" y="642"/>
                </a:lnTo>
                <a:lnTo>
                  <a:pt x="1777" y="654"/>
                </a:lnTo>
                <a:lnTo>
                  <a:pt x="1846" y="666"/>
                </a:lnTo>
                <a:lnTo>
                  <a:pt x="1949" y="677"/>
                </a:lnTo>
                <a:lnTo>
                  <a:pt x="2031" y="682"/>
                </a:lnTo>
                <a:lnTo>
                  <a:pt x="2119" y="684"/>
                </a:lnTo>
                <a:lnTo>
                  <a:pt x="2241" y="688"/>
                </a:lnTo>
                <a:lnTo>
                  <a:pt x="2318" y="689"/>
                </a:lnTo>
                <a:lnTo>
                  <a:pt x="2412" y="689"/>
                </a:lnTo>
                <a:lnTo>
                  <a:pt x="2480" y="692"/>
                </a:lnTo>
                <a:lnTo>
                  <a:pt x="2541" y="696"/>
                </a:lnTo>
                <a:lnTo>
                  <a:pt x="2619" y="712"/>
                </a:lnTo>
                <a:lnTo>
                  <a:pt x="2665" y="71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MARTPenAnnotation1"/>
          <p:cNvSpPr/>
          <p:nvPr/>
        </p:nvSpPr>
        <p:spPr>
          <a:xfrm>
            <a:off x="-276891840" y="-283483080"/>
            <a:ext cx="827280" cy="555480"/>
          </a:xfrm>
          <a:custGeom>
            <a:avLst/>
            <a:gdLst/>
            <a:ahLst/>
            <a:rect l="l" t="t" r="r" b="b"/>
            <a:pathLst>
              <a:path w="521" h="350">
                <a:moveTo>
                  <a:pt x="469" y="0"/>
                </a:moveTo>
                <a:lnTo>
                  <a:pt x="463" y="0"/>
                </a:lnTo>
                <a:lnTo>
                  <a:pt x="457" y="1"/>
                </a:lnTo>
                <a:lnTo>
                  <a:pt x="441" y="6"/>
                </a:lnTo>
                <a:lnTo>
                  <a:pt x="433" y="8"/>
                </a:lnTo>
                <a:lnTo>
                  <a:pt x="422" y="11"/>
                </a:lnTo>
                <a:lnTo>
                  <a:pt x="408" y="16"/>
                </a:lnTo>
                <a:lnTo>
                  <a:pt x="281" y="63"/>
                </a:lnTo>
                <a:lnTo>
                  <a:pt x="264" y="68"/>
                </a:lnTo>
                <a:lnTo>
                  <a:pt x="244" y="72"/>
                </a:lnTo>
                <a:lnTo>
                  <a:pt x="178" y="85"/>
                </a:lnTo>
                <a:lnTo>
                  <a:pt x="152" y="89"/>
                </a:lnTo>
                <a:lnTo>
                  <a:pt x="139" y="92"/>
                </a:lnTo>
                <a:lnTo>
                  <a:pt x="129" y="93"/>
                </a:lnTo>
                <a:lnTo>
                  <a:pt x="115" y="94"/>
                </a:lnTo>
                <a:lnTo>
                  <a:pt x="99" y="97"/>
                </a:lnTo>
                <a:lnTo>
                  <a:pt x="84" y="100"/>
                </a:lnTo>
                <a:lnTo>
                  <a:pt x="71" y="105"/>
                </a:lnTo>
                <a:lnTo>
                  <a:pt x="57" y="111"/>
                </a:lnTo>
                <a:lnTo>
                  <a:pt x="45" y="120"/>
                </a:lnTo>
                <a:lnTo>
                  <a:pt x="39" y="125"/>
                </a:lnTo>
                <a:lnTo>
                  <a:pt x="33" y="134"/>
                </a:lnTo>
                <a:lnTo>
                  <a:pt x="30" y="140"/>
                </a:lnTo>
                <a:lnTo>
                  <a:pt x="26" y="146"/>
                </a:lnTo>
                <a:lnTo>
                  <a:pt x="19" y="158"/>
                </a:lnTo>
                <a:lnTo>
                  <a:pt x="15" y="164"/>
                </a:lnTo>
                <a:lnTo>
                  <a:pt x="11" y="171"/>
                </a:lnTo>
                <a:lnTo>
                  <a:pt x="8" y="178"/>
                </a:lnTo>
                <a:lnTo>
                  <a:pt x="5" y="184"/>
                </a:lnTo>
                <a:lnTo>
                  <a:pt x="3" y="190"/>
                </a:lnTo>
                <a:lnTo>
                  <a:pt x="2" y="197"/>
                </a:lnTo>
                <a:lnTo>
                  <a:pt x="2" y="203"/>
                </a:lnTo>
                <a:lnTo>
                  <a:pt x="1" y="210"/>
                </a:lnTo>
                <a:lnTo>
                  <a:pt x="1" y="217"/>
                </a:lnTo>
                <a:lnTo>
                  <a:pt x="0" y="233"/>
                </a:lnTo>
                <a:lnTo>
                  <a:pt x="0" y="260"/>
                </a:lnTo>
                <a:lnTo>
                  <a:pt x="1" y="266"/>
                </a:lnTo>
                <a:lnTo>
                  <a:pt x="2" y="273"/>
                </a:lnTo>
                <a:lnTo>
                  <a:pt x="3" y="280"/>
                </a:lnTo>
                <a:lnTo>
                  <a:pt x="5" y="285"/>
                </a:lnTo>
                <a:lnTo>
                  <a:pt x="8" y="289"/>
                </a:lnTo>
                <a:lnTo>
                  <a:pt x="15" y="297"/>
                </a:lnTo>
                <a:lnTo>
                  <a:pt x="28" y="314"/>
                </a:lnTo>
                <a:lnTo>
                  <a:pt x="34" y="321"/>
                </a:lnTo>
                <a:lnTo>
                  <a:pt x="46" y="329"/>
                </a:lnTo>
                <a:lnTo>
                  <a:pt x="59" y="338"/>
                </a:lnTo>
                <a:lnTo>
                  <a:pt x="69" y="341"/>
                </a:lnTo>
                <a:lnTo>
                  <a:pt x="83" y="345"/>
                </a:lnTo>
                <a:lnTo>
                  <a:pt x="91" y="346"/>
                </a:lnTo>
                <a:lnTo>
                  <a:pt x="102" y="347"/>
                </a:lnTo>
                <a:lnTo>
                  <a:pt x="114" y="348"/>
                </a:lnTo>
                <a:lnTo>
                  <a:pt x="138" y="349"/>
                </a:lnTo>
                <a:lnTo>
                  <a:pt x="157" y="349"/>
                </a:lnTo>
                <a:lnTo>
                  <a:pt x="169" y="348"/>
                </a:lnTo>
                <a:lnTo>
                  <a:pt x="184" y="345"/>
                </a:lnTo>
                <a:lnTo>
                  <a:pt x="214" y="337"/>
                </a:lnTo>
                <a:lnTo>
                  <a:pt x="237" y="332"/>
                </a:lnTo>
                <a:lnTo>
                  <a:pt x="251" y="328"/>
                </a:lnTo>
                <a:lnTo>
                  <a:pt x="267" y="323"/>
                </a:lnTo>
                <a:lnTo>
                  <a:pt x="283" y="317"/>
                </a:lnTo>
                <a:lnTo>
                  <a:pt x="297" y="311"/>
                </a:lnTo>
                <a:lnTo>
                  <a:pt x="308" y="305"/>
                </a:lnTo>
                <a:lnTo>
                  <a:pt x="360" y="276"/>
                </a:lnTo>
                <a:lnTo>
                  <a:pt x="374" y="267"/>
                </a:lnTo>
                <a:lnTo>
                  <a:pt x="388" y="258"/>
                </a:lnTo>
                <a:lnTo>
                  <a:pt x="402" y="249"/>
                </a:lnTo>
                <a:lnTo>
                  <a:pt x="412" y="242"/>
                </a:lnTo>
                <a:lnTo>
                  <a:pt x="420" y="236"/>
                </a:lnTo>
                <a:lnTo>
                  <a:pt x="427" y="231"/>
                </a:lnTo>
                <a:lnTo>
                  <a:pt x="434" y="224"/>
                </a:lnTo>
                <a:lnTo>
                  <a:pt x="441" y="216"/>
                </a:lnTo>
                <a:lnTo>
                  <a:pt x="455" y="201"/>
                </a:lnTo>
                <a:lnTo>
                  <a:pt x="465" y="191"/>
                </a:lnTo>
                <a:lnTo>
                  <a:pt x="470" y="184"/>
                </a:lnTo>
                <a:lnTo>
                  <a:pt x="475" y="177"/>
                </a:lnTo>
                <a:lnTo>
                  <a:pt x="481" y="168"/>
                </a:lnTo>
                <a:lnTo>
                  <a:pt x="488" y="158"/>
                </a:lnTo>
                <a:lnTo>
                  <a:pt x="495" y="148"/>
                </a:lnTo>
                <a:lnTo>
                  <a:pt x="504" y="134"/>
                </a:lnTo>
                <a:lnTo>
                  <a:pt x="508" y="127"/>
                </a:lnTo>
                <a:lnTo>
                  <a:pt x="511" y="120"/>
                </a:lnTo>
                <a:lnTo>
                  <a:pt x="514" y="114"/>
                </a:lnTo>
                <a:lnTo>
                  <a:pt x="516" y="106"/>
                </a:lnTo>
                <a:lnTo>
                  <a:pt x="517" y="97"/>
                </a:lnTo>
                <a:lnTo>
                  <a:pt x="518" y="87"/>
                </a:lnTo>
                <a:lnTo>
                  <a:pt x="519" y="79"/>
                </a:lnTo>
                <a:lnTo>
                  <a:pt x="519" y="64"/>
                </a:lnTo>
                <a:lnTo>
                  <a:pt x="519" y="52"/>
                </a:lnTo>
                <a:lnTo>
                  <a:pt x="520" y="26"/>
                </a:lnTo>
                <a:lnTo>
                  <a:pt x="519" y="25"/>
                </a:lnTo>
                <a:lnTo>
                  <a:pt x="518" y="24"/>
                </a:lnTo>
                <a:lnTo>
                  <a:pt x="517" y="24"/>
                </a:lnTo>
                <a:lnTo>
                  <a:pt x="513" y="23"/>
                </a:lnTo>
                <a:lnTo>
                  <a:pt x="512" y="23"/>
                </a:lnTo>
                <a:lnTo>
                  <a:pt x="510" y="23"/>
                </a:lnTo>
                <a:lnTo>
                  <a:pt x="503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MARTPenAnnotation2"/>
          <p:cNvSpPr/>
          <p:nvPr/>
        </p:nvSpPr>
        <p:spPr>
          <a:xfrm>
            <a:off x="-275834520" y="-283384800"/>
            <a:ext cx="289080" cy="270000"/>
          </a:xfrm>
          <a:custGeom>
            <a:avLst/>
            <a:gdLst/>
            <a:ahLst/>
            <a:rect l="l" t="t" r="r" b="b"/>
            <a:pathLst>
              <a:path w="182" h="170">
                <a:moveTo>
                  <a:pt x="12" y="0"/>
                </a:moveTo>
                <a:lnTo>
                  <a:pt x="12" y="3"/>
                </a:lnTo>
                <a:lnTo>
                  <a:pt x="10" y="8"/>
                </a:lnTo>
                <a:lnTo>
                  <a:pt x="9" y="11"/>
                </a:lnTo>
                <a:lnTo>
                  <a:pt x="7" y="16"/>
                </a:lnTo>
                <a:lnTo>
                  <a:pt x="7" y="20"/>
                </a:lnTo>
                <a:lnTo>
                  <a:pt x="6" y="24"/>
                </a:lnTo>
                <a:lnTo>
                  <a:pt x="6" y="33"/>
                </a:lnTo>
                <a:lnTo>
                  <a:pt x="6" y="143"/>
                </a:lnTo>
                <a:lnTo>
                  <a:pt x="5" y="144"/>
                </a:lnTo>
                <a:lnTo>
                  <a:pt x="4" y="145"/>
                </a:lnTo>
                <a:lnTo>
                  <a:pt x="3" y="146"/>
                </a:lnTo>
                <a:lnTo>
                  <a:pt x="2" y="147"/>
                </a:lnTo>
                <a:lnTo>
                  <a:pt x="2" y="148"/>
                </a:lnTo>
                <a:lnTo>
                  <a:pt x="1" y="151"/>
                </a:lnTo>
                <a:lnTo>
                  <a:pt x="1" y="156"/>
                </a:lnTo>
                <a:lnTo>
                  <a:pt x="0" y="160"/>
                </a:lnTo>
                <a:lnTo>
                  <a:pt x="0" y="165"/>
                </a:lnTo>
                <a:lnTo>
                  <a:pt x="1" y="167"/>
                </a:lnTo>
                <a:lnTo>
                  <a:pt x="2" y="168"/>
                </a:lnTo>
                <a:lnTo>
                  <a:pt x="3" y="168"/>
                </a:lnTo>
                <a:lnTo>
                  <a:pt x="8" y="169"/>
                </a:lnTo>
                <a:lnTo>
                  <a:pt x="11" y="169"/>
                </a:lnTo>
                <a:lnTo>
                  <a:pt x="28" y="169"/>
                </a:lnTo>
                <a:lnTo>
                  <a:pt x="181" y="169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MARTPenAnnotation3"/>
          <p:cNvSpPr/>
          <p:nvPr/>
        </p:nvSpPr>
        <p:spPr>
          <a:xfrm>
            <a:off x="-281595600" y="-281077920"/>
            <a:ext cx="816120" cy="1955880"/>
          </a:xfrm>
          <a:custGeom>
            <a:avLst/>
            <a:gdLst/>
            <a:ahLst/>
            <a:rect l="l" t="t" r="r" b="b"/>
            <a:pathLst>
              <a:path w="514" h="1232">
                <a:moveTo>
                  <a:pt x="513" y="0"/>
                </a:moveTo>
                <a:lnTo>
                  <a:pt x="500" y="25"/>
                </a:lnTo>
                <a:lnTo>
                  <a:pt x="484" y="53"/>
                </a:lnTo>
                <a:lnTo>
                  <a:pt x="472" y="79"/>
                </a:lnTo>
                <a:lnTo>
                  <a:pt x="465" y="94"/>
                </a:lnTo>
                <a:lnTo>
                  <a:pt x="422" y="181"/>
                </a:lnTo>
                <a:lnTo>
                  <a:pt x="396" y="234"/>
                </a:lnTo>
                <a:lnTo>
                  <a:pt x="384" y="255"/>
                </a:lnTo>
                <a:lnTo>
                  <a:pt x="369" y="289"/>
                </a:lnTo>
                <a:lnTo>
                  <a:pt x="274" y="513"/>
                </a:lnTo>
                <a:lnTo>
                  <a:pt x="236" y="597"/>
                </a:lnTo>
                <a:lnTo>
                  <a:pt x="217" y="643"/>
                </a:lnTo>
                <a:lnTo>
                  <a:pt x="153" y="807"/>
                </a:lnTo>
                <a:lnTo>
                  <a:pt x="143" y="830"/>
                </a:lnTo>
                <a:lnTo>
                  <a:pt x="122" y="882"/>
                </a:lnTo>
                <a:lnTo>
                  <a:pt x="77" y="999"/>
                </a:lnTo>
                <a:lnTo>
                  <a:pt x="64" y="1032"/>
                </a:lnTo>
                <a:lnTo>
                  <a:pt x="49" y="1067"/>
                </a:lnTo>
                <a:lnTo>
                  <a:pt x="36" y="1100"/>
                </a:lnTo>
                <a:lnTo>
                  <a:pt x="25" y="1133"/>
                </a:lnTo>
                <a:lnTo>
                  <a:pt x="13" y="1171"/>
                </a:lnTo>
                <a:lnTo>
                  <a:pt x="9" y="1189"/>
                </a:lnTo>
                <a:lnTo>
                  <a:pt x="4" y="1219"/>
                </a:lnTo>
                <a:lnTo>
                  <a:pt x="0" y="123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82119400" y="-284278320"/>
            <a:ext cx="6035760" cy="6670440"/>
            <a:chOff x="-282119400" y="-284278320"/>
            <a:chExt cx="6035760" cy="6670440"/>
          </a:xfrm>
        </p:grpSpPr>
        <p:sp>
          <p:nvSpPr>
            <p:cNvPr id="53" name="SMARTPenAnnotation4"/>
            <p:cNvSpPr/>
            <p:nvPr/>
          </p:nvSpPr>
          <p:spPr>
            <a:xfrm>
              <a:off x="-279196920" y="-281473200"/>
              <a:ext cx="1435320" cy="2555640"/>
            </a:xfrm>
            <a:custGeom>
              <a:avLst/>
              <a:gdLst/>
              <a:ahLst/>
              <a:rect l="l" t="t" r="r" b="b"/>
              <a:pathLst>
                <a:path w="904" h="1610">
                  <a:moveTo>
                    <a:pt x="903" y="0"/>
                  </a:moveTo>
                  <a:lnTo>
                    <a:pt x="883" y="54"/>
                  </a:lnTo>
                  <a:lnTo>
                    <a:pt x="867" y="92"/>
                  </a:lnTo>
                  <a:lnTo>
                    <a:pt x="852" y="127"/>
                  </a:lnTo>
                  <a:lnTo>
                    <a:pt x="815" y="226"/>
                  </a:lnTo>
                  <a:lnTo>
                    <a:pt x="803" y="255"/>
                  </a:lnTo>
                  <a:lnTo>
                    <a:pt x="753" y="373"/>
                  </a:lnTo>
                  <a:lnTo>
                    <a:pt x="733" y="420"/>
                  </a:lnTo>
                  <a:lnTo>
                    <a:pt x="691" y="513"/>
                  </a:lnTo>
                  <a:lnTo>
                    <a:pt x="672" y="557"/>
                  </a:lnTo>
                  <a:lnTo>
                    <a:pt x="660" y="584"/>
                  </a:lnTo>
                  <a:lnTo>
                    <a:pt x="614" y="677"/>
                  </a:lnTo>
                  <a:lnTo>
                    <a:pt x="594" y="721"/>
                  </a:lnTo>
                  <a:lnTo>
                    <a:pt x="580" y="748"/>
                  </a:lnTo>
                  <a:lnTo>
                    <a:pt x="545" y="813"/>
                  </a:lnTo>
                  <a:lnTo>
                    <a:pt x="474" y="939"/>
                  </a:lnTo>
                  <a:lnTo>
                    <a:pt x="436" y="1003"/>
                  </a:lnTo>
                  <a:lnTo>
                    <a:pt x="421" y="1028"/>
                  </a:lnTo>
                  <a:lnTo>
                    <a:pt x="400" y="1059"/>
                  </a:lnTo>
                  <a:lnTo>
                    <a:pt x="298" y="1199"/>
                  </a:lnTo>
                  <a:lnTo>
                    <a:pt x="281" y="1221"/>
                  </a:lnTo>
                  <a:lnTo>
                    <a:pt x="240" y="1270"/>
                  </a:lnTo>
                  <a:lnTo>
                    <a:pt x="223" y="1292"/>
                  </a:lnTo>
                  <a:lnTo>
                    <a:pt x="179" y="1352"/>
                  </a:lnTo>
                  <a:lnTo>
                    <a:pt x="125" y="1421"/>
                  </a:lnTo>
                  <a:lnTo>
                    <a:pt x="62" y="1509"/>
                  </a:lnTo>
                  <a:lnTo>
                    <a:pt x="38" y="1545"/>
                  </a:lnTo>
                  <a:lnTo>
                    <a:pt x="14" y="1586"/>
                  </a:lnTo>
                  <a:lnTo>
                    <a:pt x="0" y="160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PenAnnotation5"/>
            <p:cNvSpPr/>
            <p:nvPr/>
          </p:nvSpPr>
          <p:spPr>
            <a:xfrm>
              <a:off x="-281981160" y="-280369800"/>
              <a:ext cx="4444920" cy="2761920"/>
            </a:xfrm>
            <a:custGeom>
              <a:avLst/>
              <a:gdLst/>
              <a:ahLst/>
              <a:rect l="l" t="t" r="r" b="b"/>
              <a:pathLst>
                <a:path w="2800" h="1740">
                  <a:moveTo>
                    <a:pt x="179" y="0"/>
                  </a:moveTo>
                  <a:lnTo>
                    <a:pt x="177" y="32"/>
                  </a:lnTo>
                  <a:lnTo>
                    <a:pt x="165" y="97"/>
                  </a:lnTo>
                  <a:lnTo>
                    <a:pt x="154" y="157"/>
                  </a:lnTo>
                  <a:lnTo>
                    <a:pt x="122" y="302"/>
                  </a:lnTo>
                  <a:lnTo>
                    <a:pt x="111" y="349"/>
                  </a:lnTo>
                  <a:lnTo>
                    <a:pt x="92" y="415"/>
                  </a:lnTo>
                  <a:lnTo>
                    <a:pt x="79" y="468"/>
                  </a:lnTo>
                  <a:lnTo>
                    <a:pt x="69" y="519"/>
                  </a:lnTo>
                  <a:lnTo>
                    <a:pt x="56" y="599"/>
                  </a:lnTo>
                  <a:lnTo>
                    <a:pt x="50" y="634"/>
                  </a:lnTo>
                  <a:lnTo>
                    <a:pt x="44" y="664"/>
                  </a:lnTo>
                  <a:lnTo>
                    <a:pt x="38" y="691"/>
                  </a:lnTo>
                  <a:lnTo>
                    <a:pt x="32" y="726"/>
                  </a:lnTo>
                  <a:lnTo>
                    <a:pt x="18" y="810"/>
                  </a:lnTo>
                  <a:lnTo>
                    <a:pt x="8" y="877"/>
                  </a:lnTo>
                  <a:lnTo>
                    <a:pt x="5" y="904"/>
                  </a:lnTo>
                  <a:lnTo>
                    <a:pt x="2" y="944"/>
                  </a:lnTo>
                  <a:lnTo>
                    <a:pt x="0" y="1045"/>
                  </a:lnTo>
                  <a:lnTo>
                    <a:pt x="2" y="1100"/>
                  </a:lnTo>
                  <a:lnTo>
                    <a:pt x="6" y="1156"/>
                  </a:lnTo>
                  <a:lnTo>
                    <a:pt x="11" y="1213"/>
                  </a:lnTo>
                  <a:lnTo>
                    <a:pt x="16" y="1258"/>
                  </a:lnTo>
                  <a:lnTo>
                    <a:pt x="21" y="1294"/>
                  </a:lnTo>
                  <a:lnTo>
                    <a:pt x="27" y="1326"/>
                  </a:lnTo>
                  <a:lnTo>
                    <a:pt x="37" y="1361"/>
                  </a:lnTo>
                  <a:lnTo>
                    <a:pt x="51" y="1399"/>
                  </a:lnTo>
                  <a:lnTo>
                    <a:pt x="67" y="1439"/>
                  </a:lnTo>
                  <a:lnTo>
                    <a:pt x="81" y="1470"/>
                  </a:lnTo>
                  <a:lnTo>
                    <a:pt x="105" y="1519"/>
                  </a:lnTo>
                  <a:lnTo>
                    <a:pt x="143" y="1571"/>
                  </a:lnTo>
                  <a:lnTo>
                    <a:pt x="186" y="1619"/>
                  </a:lnTo>
                  <a:lnTo>
                    <a:pt x="240" y="1664"/>
                  </a:lnTo>
                  <a:lnTo>
                    <a:pt x="287" y="1693"/>
                  </a:lnTo>
                  <a:lnTo>
                    <a:pt x="353" y="1715"/>
                  </a:lnTo>
                  <a:lnTo>
                    <a:pt x="423" y="1731"/>
                  </a:lnTo>
                  <a:lnTo>
                    <a:pt x="474" y="1739"/>
                  </a:lnTo>
                  <a:lnTo>
                    <a:pt x="541" y="1737"/>
                  </a:lnTo>
                  <a:lnTo>
                    <a:pt x="615" y="1730"/>
                  </a:lnTo>
                  <a:lnTo>
                    <a:pt x="677" y="1723"/>
                  </a:lnTo>
                  <a:lnTo>
                    <a:pt x="719" y="1716"/>
                  </a:lnTo>
                  <a:lnTo>
                    <a:pt x="911" y="1682"/>
                  </a:lnTo>
                  <a:lnTo>
                    <a:pt x="947" y="1677"/>
                  </a:lnTo>
                  <a:lnTo>
                    <a:pt x="1157" y="1639"/>
                  </a:lnTo>
                  <a:lnTo>
                    <a:pt x="1571" y="1558"/>
                  </a:lnTo>
                  <a:lnTo>
                    <a:pt x="1840" y="1502"/>
                  </a:lnTo>
                  <a:lnTo>
                    <a:pt x="1927" y="1482"/>
                  </a:lnTo>
                  <a:lnTo>
                    <a:pt x="1977" y="1466"/>
                  </a:lnTo>
                  <a:lnTo>
                    <a:pt x="2029" y="1448"/>
                  </a:lnTo>
                  <a:lnTo>
                    <a:pt x="2101" y="1419"/>
                  </a:lnTo>
                  <a:lnTo>
                    <a:pt x="2161" y="1391"/>
                  </a:lnTo>
                  <a:lnTo>
                    <a:pt x="2236" y="1351"/>
                  </a:lnTo>
                  <a:lnTo>
                    <a:pt x="2311" y="1310"/>
                  </a:lnTo>
                  <a:lnTo>
                    <a:pt x="2361" y="1272"/>
                  </a:lnTo>
                  <a:lnTo>
                    <a:pt x="2416" y="1224"/>
                  </a:lnTo>
                  <a:lnTo>
                    <a:pt x="2472" y="1171"/>
                  </a:lnTo>
                  <a:lnTo>
                    <a:pt x="2523" y="1118"/>
                  </a:lnTo>
                  <a:lnTo>
                    <a:pt x="2575" y="1062"/>
                  </a:lnTo>
                  <a:lnTo>
                    <a:pt x="2610" y="1022"/>
                  </a:lnTo>
                  <a:lnTo>
                    <a:pt x="2648" y="970"/>
                  </a:lnTo>
                  <a:lnTo>
                    <a:pt x="2684" y="916"/>
                  </a:lnTo>
                  <a:lnTo>
                    <a:pt x="2709" y="864"/>
                  </a:lnTo>
                  <a:lnTo>
                    <a:pt x="2736" y="811"/>
                  </a:lnTo>
                  <a:lnTo>
                    <a:pt x="2759" y="748"/>
                  </a:lnTo>
                  <a:lnTo>
                    <a:pt x="2770" y="720"/>
                  </a:lnTo>
                  <a:lnTo>
                    <a:pt x="2775" y="680"/>
                  </a:lnTo>
                  <a:lnTo>
                    <a:pt x="2776" y="631"/>
                  </a:lnTo>
                  <a:lnTo>
                    <a:pt x="2776" y="561"/>
                  </a:lnTo>
                  <a:lnTo>
                    <a:pt x="2772" y="502"/>
                  </a:lnTo>
                  <a:lnTo>
                    <a:pt x="2770" y="449"/>
                  </a:lnTo>
                  <a:lnTo>
                    <a:pt x="2770" y="315"/>
                  </a:lnTo>
                  <a:lnTo>
                    <a:pt x="2777" y="263"/>
                  </a:lnTo>
                  <a:lnTo>
                    <a:pt x="2782" y="245"/>
                  </a:lnTo>
                  <a:lnTo>
                    <a:pt x="2793" y="217"/>
                  </a:lnTo>
                  <a:lnTo>
                    <a:pt x="2796" y="212"/>
                  </a:lnTo>
                  <a:lnTo>
                    <a:pt x="2799" y="20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PenAnnotation6"/>
            <p:cNvSpPr/>
            <p:nvPr/>
          </p:nvSpPr>
          <p:spPr>
            <a:xfrm>
              <a:off x="-282046320" y="-281141640"/>
              <a:ext cx="1900080" cy="2125800"/>
            </a:xfrm>
            <a:custGeom>
              <a:avLst/>
              <a:gdLst/>
              <a:ahLst/>
              <a:rect l="l" t="t" r="r" b="b"/>
              <a:pathLst>
                <a:path w="1197" h="1339">
                  <a:moveTo>
                    <a:pt x="705" y="0"/>
                  </a:moveTo>
                  <a:lnTo>
                    <a:pt x="721" y="1"/>
                  </a:lnTo>
                  <a:lnTo>
                    <a:pt x="732" y="3"/>
                  </a:lnTo>
                  <a:lnTo>
                    <a:pt x="756" y="15"/>
                  </a:lnTo>
                  <a:lnTo>
                    <a:pt x="784" y="30"/>
                  </a:lnTo>
                  <a:lnTo>
                    <a:pt x="859" y="66"/>
                  </a:lnTo>
                  <a:lnTo>
                    <a:pt x="889" y="83"/>
                  </a:lnTo>
                  <a:lnTo>
                    <a:pt x="917" y="102"/>
                  </a:lnTo>
                  <a:lnTo>
                    <a:pt x="957" y="126"/>
                  </a:lnTo>
                  <a:lnTo>
                    <a:pt x="979" y="141"/>
                  </a:lnTo>
                  <a:lnTo>
                    <a:pt x="1000" y="158"/>
                  </a:lnTo>
                  <a:lnTo>
                    <a:pt x="1022" y="175"/>
                  </a:lnTo>
                  <a:lnTo>
                    <a:pt x="1054" y="197"/>
                  </a:lnTo>
                  <a:lnTo>
                    <a:pt x="1079" y="214"/>
                  </a:lnTo>
                  <a:lnTo>
                    <a:pt x="1109" y="237"/>
                  </a:lnTo>
                  <a:lnTo>
                    <a:pt x="1145" y="266"/>
                  </a:lnTo>
                  <a:lnTo>
                    <a:pt x="1181" y="301"/>
                  </a:lnTo>
                  <a:lnTo>
                    <a:pt x="1191" y="312"/>
                  </a:lnTo>
                  <a:lnTo>
                    <a:pt x="1194" y="317"/>
                  </a:lnTo>
                  <a:lnTo>
                    <a:pt x="1195" y="321"/>
                  </a:lnTo>
                  <a:lnTo>
                    <a:pt x="1196" y="340"/>
                  </a:lnTo>
                  <a:lnTo>
                    <a:pt x="1195" y="362"/>
                  </a:lnTo>
                  <a:lnTo>
                    <a:pt x="1189" y="393"/>
                  </a:lnTo>
                  <a:lnTo>
                    <a:pt x="1183" y="419"/>
                  </a:lnTo>
                  <a:lnTo>
                    <a:pt x="1177" y="450"/>
                  </a:lnTo>
                  <a:lnTo>
                    <a:pt x="1170" y="477"/>
                  </a:lnTo>
                  <a:lnTo>
                    <a:pt x="1156" y="511"/>
                  </a:lnTo>
                  <a:lnTo>
                    <a:pt x="1147" y="531"/>
                  </a:lnTo>
                  <a:lnTo>
                    <a:pt x="1137" y="555"/>
                  </a:lnTo>
                  <a:lnTo>
                    <a:pt x="1116" y="613"/>
                  </a:lnTo>
                  <a:lnTo>
                    <a:pt x="1099" y="654"/>
                  </a:lnTo>
                  <a:lnTo>
                    <a:pt x="1082" y="690"/>
                  </a:lnTo>
                  <a:lnTo>
                    <a:pt x="1048" y="761"/>
                  </a:lnTo>
                  <a:lnTo>
                    <a:pt x="1031" y="796"/>
                  </a:lnTo>
                  <a:lnTo>
                    <a:pt x="1020" y="817"/>
                  </a:lnTo>
                  <a:lnTo>
                    <a:pt x="1006" y="840"/>
                  </a:lnTo>
                  <a:lnTo>
                    <a:pt x="990" y="865"/>
                  </a:lnTo>
                  <a:lnTo>
                    <a:pt x="966" y="906"/>
                  </a:lnTo>
                  <a:lnTo>
                    <a:pt x="957" y="924"/>
                  </a:lnTo>
                  <a:lnTo>
                    <a:pt x="922" y="964"/>
                  </a:lnTo>
                  <a:lnTo>
                    <a:pt x="852" y="1033"/>
                  </a:lnTo>
                  <a:lnTo>
                    <a:pt x="833" y="1051"/>
                  </a:lnTo>
                  <a:lnTo>
                    <a:pt x="784" y="1092"/>
                  </a:lnTo>
                  <a:lnTo>
                    <a:pt x="756" y="1114"/>
                  </a:lnTo>
                  <a:lnTo>
                    <a:pt x="726" y="1136"/>
                  </a:lnTo>
                  <a:lnTo>
                    <a:pt x="632" y="1202"/>
                  </a:lnTo>
                  <a:lnTo>
                    <a:pt x="611" y="1213"/>
                  </a:lnTo>
                  <a:lnTo>
                    <a:pt x="587" y="1225"/>
                  </a:lnTo>
                  <a:lnTo>
                    <a:pt x="560" y="1236"/>
                  </a:lnTo>
                  <a:lnTo>
                    <a:pt x="540" y="1246"/>
                  </a:lnTo>
                  <a:lnTo>
                    <a:pt x="508" y="1261"/>
                  </a:lnTo>
                  <a:lnTo>
                    <a:pt x="490" y="1269"/>
                  </a:lnTo>
                  <a:lnTo>
                    <a:pt x="469" y="1278"/>
                  </a:lnTo>
                  <a:lnTo>
                    <a:pt x="446" y="1287"/>
                  </a:lnTo>
                  <a:lnTo>
                    <a:pt x="412" y="1298"/>
                  </a:lnTo>
                  <a:lnTo>
                    <a:pt x="384" y="1307"/>
                  </a:lnTo>
                  <a:lnTo>
                    <a:pt x="350" y="1320"/>
                  </a:lnTo>
                  <a:lnTo>
                    <a:pt x="316" y="1328"/>
                  </a:lnTo>
                  <a:lnTo>
                    <a:pt x="286" y="1334"/>
                  </a:lnTo>
                  <a:lnTo>
                    <a:pt x="249" y="1337"/>
                  </a:lnTo>
                  <a:lnTo>
                    <a:pt x="219" y="1338"/>
                  </a:lnTo>
                  <a:lnTo>
                    <a:pt x="217" y="1338"/>
                  </a:lnTo>
                  <a:lnTo>
                    <a:pt x="216" y="1337"/>
                  </a:lnTo>
                  <a:lnTo>
                    <a:pt x="215" y="1335"/>
                  </a:lnTo>
                  <a:lnTo>
                    <a:pt x="206" y="1298"/>
                  </a:lnTo>
                  <a:lnTo>
                    <a:pt x="196" y="1271"/>
                  </a:lnTo>
                  <a:lnTo>
                    <a:pt x="182" y="1239"/>
                  </a:lnTo>
                  <a:lnTo>
                    <a:pt x="146" y="1160"/>
                  </a:lnTo>
                  <a:lnTo>
                    <a:pt x="127" y="1127"/>
                  </a:lnTo>
                  <a:lnTo>
                    <a:pt x="101" y="1089"/>
                  </a:lnTo>
                  <a:lnTo>
                    <a:pt x="62" y="1042"/>
                  </a:lnTo>
                  <a:lnTo>
                    <a:pt x="31" y="1001"/>
                  </a:lnTo>
                  <a:lnTo>
                    <a:pt x="12" y="969"/>
                  </a:lnTo>
                  <a:lnTo>
                    <a:pt x="3" y="940"/>
                  </a:lnTo>
                  <a:lnTo>
                    <a:pt x="0" y="900"/>
                  </a:lnTo>
                  <a:lnTo>
                    <a:pt x="0" y="894"/>
                  </a:lnTo>
                  <a:lnTo>
                    <a:pt x="6" y="867"/>
                  </a:lnTo>
                  <a:lnTo>
                    <a:pt x="12" y="852"/>
                  </a:lnTo>
                  <a:lnTo>
                    <a:pt x="15" y="847"/>
                  </a:lnTo>
                  <a:lnTo>
                    <a:pt x="29" y="811"/>
                  </a:lnTo>
                  <a:lnTo>
                    <a:pt x="51" y="782"/>
                  </a:lnTo>
                  <a:lnTo>
                    <a:pt x="68" y="767"/>
                  </a:lnTo>
                  <a:lnTo>
                    <a:pt x="72" y="764"/>
                  </a:lnTo>
                  <a:lnTo>
                    <a:pt x="78" y="76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PenAnnotation7"/>
            <p:cNvSpPr/>
            <p:nvPr/>
          </p:nvSpPr>
          <p:spPr>
            <a:xfrm>
              <a:off x="-281060640" y="-280881000"/>
              <a:ext cx="162000" cy="350640"/>
            </a:xfrm>
            <a:custGeom>
              <a:avLst/>
              <a:gdLst/>
              <a:ahLst/>
              <a:rect l="l" t="t" r="r" b="b"/>
              <a:pathLst>
                <a:path w="102" h="221">
                  <a:moveTo>
                    <a:pt x="0" y="220"/>
                  </a:moveTo>
                  <a:lnTo>
                    <a:pt x="9" y="205"/>
                  </a:lnTo>
                  <a:lnTo>
                    <a:pt x="13" y="198"/>
                  </a:lnTo>
                  <a:lnTo>
                    <a:pt x="18" y="191"/>
                  </a:lnTo>
                  <a:lnTo>
                    <a:pt x="23" y="184"/>
                  </a:lnTo>
                  <a:lnTo>
                    <a:pt x="27" y="178"/>
                  </a:lnTo>
                  <a:lnTo>
                    <a:pt x="29" y="172"/>
                  </a:lnTo>
                  <a:lnTo>
                    <a:pt x="30" y="167"/>
                  </a:lnTo>
                  <a:lnTo>
                    <a:pt x="33" y="160"/>
                  </a:lnTo>
                  <a:lnTo>
                    <a:pt x="41" y="140"/>
                  </a:lnTo>
                  <a:lnTo>
                    <a:pt x="48" y="125"/>
                  </a:lnTo>
                  <a:lnTo>
                    <a:pt x="51" y="119"/>
                  </a:lnTo>
                  <a:lnTo>
                    <a:pt x="57" y="104"/>
                  </a:lnTo>
                  <a:lnTo>
                    <a:pt x="60" y="96"/>
                  </a:lnTo>
                  <a:lnTo>
                    <a:pt x="64" y="88"/>
                  </a:lnTo>
                  <a:lnTo>
                    <a:pt x="68" y="81"/>
                  </a:lnTo>
                  <a:lnTo>
                    <a:pt x="71" y="75"/>
                  </a:lnTo>
                  <a:lnTo>
                    <a:pt x="79" y="61"/>
                  </a:lnTo>
                  <a:lnTo>
                    <a:pt x="82" y="54"/>
                  </a:lnTo>
                  <a:lnTo>
                    <a:pt x="86" y="47"/>
                  </a:lnTo>
                  <a:lnTo>
                    <a:pt x="88" y="41"/>
                  </a:lnTo>
                  <a:lnTo>
                    <a:pt x="91" y="35"/>
                  </a:lnTo>
                  <a:lnTo>
                    <a:pt x="93" y="30"/>
                  </a:lnTo>
                  <a:lnTo>
                    <a:pt x="95" y="26"/>
                  </a:lnTo>
                  <a:lnTo>
                    <a:pt x="97" y="23"/>
                  </a:lnTo>
                  <a:lnTo>
                    <a:pt x="99" y="16"/>
                  </a:lnTo>
                  <a:lnTo>
                    <a:pt x="100" y="10"/>
                  </a:lnTo>
                  <a:lnTo>
                    <a:pt x="101" y="5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7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PenAnnotation8"/>
            <p:cNvSpPr/>
            <p:nvPr/>
          </p:nvSpPr>
          <p:spPr>
            <a:xfrm>
              <a:off x="-282119400" y="-281446200"/>
              <a:ext cx="2530440" cy="1641240"/>
            </a:xfrm>
            <a:custGeom>
              <a:avLst/>
              <a:gdLst/>
              <a:ahLst/>
              <a:rect l="l" t="t" r="r" b="b"/>
              <a:pathLst>
                <a:path w="1594" h="1034">
                  <a:moveTo>
                    <a:pt x="0" y="1033"/>
                  </a:moveTo>
                  <a:lnTo>
                    <a:pt x="8" y="1025"/>
                  </a:lnTo>
                  <a:lnTo>
                    <a:pt x="17" y="1020"/>
                  </a:lnTo>
                  <a:lnTo>
                    <a:pt x="33" y="994"/>
                  </a:lnTo>
                  <a:lnTo>
                    <a:pt x="51" y="969"/>
                  </a:lnTo>
                  <a:lnTo>
                    <a:pt x="102" y="905"/>
                  </a:lnTo>
                  <a:lnTo>
                    <a:pt x="120" y="880"/>
                  </a:lnTo>
                  <a:lnTo>
                    <a:pt x="147" y="842"/>
                  </a:lnTo>
                  <a:lnTo>
                    <a:pt x="168" y="817"/>
                  </a:lnTo>
                  <a:lnTo>
                    <a:pt x="193" y="790"/>
                  </a:lnTo>
                  <a:lnTo>
                    <a:pt x="262" y="717"/>
                  </a:lnTo>
                  <a:lnTo>
                    <a:pt x="278" y="700"/>
                  </a:lnTo>
                  <a:lnTo>
                    <a:pt x="303" y="677"/>
                  </a:lnTo>
                  <a:lnTo>
                    <a:pt x="367" y="619"/>
                  </a:lnTo>
                  <a:lnTo>
                    <a:pt x="395" y="594"/>
                  </a:lnTo>
                  <a:lnTo>
                    <a:pt x="418" y="571"/>
                  </a:lnTo>
                  <a:lnTo>
                    <a:pt x="439" y="550"/>
                  </a:lnTo>
                  <a:lnTo>
                    <a:pt x="476" y="524"/>
                  </a:lnTo>
                  <a:lnTo>
                    <a:pt x="524" y="495"/>
                  </a:lnTo>
                  <a:lnTo>
                    <a:pt x="623" y="439"/>
                  </a:lnTo>
                  <a:lnTo>
                    <a:pt x="692" y="402"/>
                  </a:lnTo>
                  <a:lnTo>
                    <a:pt x="831" y="329"/>
                  </a:lnTo>
                  <a:lnTo>
                    <a:pt x="1143" y="174"/>
                  </a:lnTo>
                  <a:lnTo>
                    <a:pt x="1181" y="157"/>
                  </a:lnTo>
                  <a:lnTo>
                    <a:pt x="1267" y="121"/>
                  </a:lnTo>
                  <a:lnTo>
                    <a:pt x="1331" y="96"/>
                  </a:lnTo>
                  <a:lnTo>
                    <a:pt x="1356" y="86"/>
                  </a:lnTo>
                  <a:lnTo>
                    <a:pt x="1407" y="66"/>
                  </a:lnTo>
                  <a:lnTo>
                    <a:pt x="1453" y="47"/>
                  </a:lnTo>
                  <a:lnTo>
                    <a:pt x="1496" y="29"/>
                  </a:lnTo>
                  <a:lnTo>
                    <a:pt x="1539" y="17"/>
                  </a:lnTo>
                  <a:lnTo>
                    <a:pt x="1562" y="12"/>
                  </a:lnTo>
                  <a:lnTo>
                    <a:pt x="159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PenAnnotation9"/>
            <p:cNvSpPr/>
            <p:nvPr/>
          </p:nvSpPr>
          <p:spPr>
            <a:xfrm>
              <a:off x="-281535120" y="-284278320"/>
              <a:ext cx="5451480" cy="5357880"/>
            </a:xfrm>
            <a:custGeom>
              <a:avLst/>
              <a:gdLst/>
              <a:ahLst/>
              <a:rect l="l" t="t" r="r" b="b"/>
              <a:pathLst>
                <a:path w="3434" h="3375">
                  <a:moveTo>
                    <a:pt x="2365" y="1874"/>
                  </a:moveTo>
                  <a:lnTo>
                    <a:pt x="2105" y="1874"/>
                  </a:lnTo>
                  <a:lnTo>
                    <a:pt x="2032" y="1878"/>
                  </a:lnTo>
                  <a:lnTo>
                    <a:pt x="1948" y="1884"/>
                  </a:lnTo>
                  <a:lnTo>
                    <a:pt x="1884" y="1893"/>
                  </a:lnTo>
                  <a:lnTo>
                    <a:pt x="1659" y="1934"/>
                  </a:lnTo>
                  <a:lnTo>
                    <a:pt x="1577" y="1950"/>
                  </a:lnTo>
                  <a:lnTo>
                    <a:pt x="1526" y="1963"/>
                  </a:lnTo>
                  <a:lnTo>
                    <a:pt x="1398" y="1999"/>
                  </a:lnTo>
                  <a:lnTo>
                    <a:pt x="1323" y="2026"/>
                  </a:lnTo>
                  <a:lnTo>
                    <a:pt x="1242" y="2058"/>
                  </a:lnTo>
                  <a:lnTo>
                    <a:pt x="1088" y="2120"/>
                  </a:lnTo>
                  <a:lnTo>
                    <a:pt x="978" y="2163"/>
                  </a:lnTo>
                  <a:lnTo>
                    <a:pt x="910" y="2193"/>
                  </a:lnTo>
                  <a:lnTo>
                    <a:pt x="746" y="2274"/>
                  </a:lnTo>
                  <a:lnTo>
                    <a:pt x="683" y="2308"/>
                  </a:lnTo>
                  <a:lnTo>
                    <a:pt x="596" y="2362"/>
                  </a:lnTo>
                  <a:lnTo>
                    <a:pt x="431" y="2468"/>
                  </a:lnTo>
                  <a:lnTo>
                    <a:pt x="343" y="2528"/>
                  </a:lnTo>
                  <a:lnTo>
                    <a:pt x="271" y="2589"/>
                  </a:lnTo>
                  <a:lnTo>
                    <a:pt x="184" y="2681"/>
                  </a:lnTo>
                  <a:lnTo>
                    <a:pt x="146" y="2734"/>
                  </a:lnTo>
                  <a:lnTo>
                    <a:pt x="111" y="2790"/>
                  </a:lnTo>
                  <a:lnTo>
                    <a:pt x="57" y="2893"/>
                  </a:lnTo>
                  <a:lnTo>
                    <a:pt x="26" y="2960"/>
                  </a:lnTo>
                  <a:lnTo>
                    <a:pt x="4" y="3057"/>
                  </a:lnTo>
                  <a:lnTo>
                    <a:pt x="0" y="3121"/>
                  </a:lnTo>
                  <a:lnTo>
                    <a:pt x="15" y="3162"/>
                  </a:lnTo>
                  <a:lnTo>
                    <a:pt x="38" y="3202"/>
                  </a:lnTo>
                  <a:lnTo>
                    <a:pt x="61" y="3228"/>
                  </a:lnTo>
                  <a:lnTo>
                    <a:pt x="143" y="3284"/>
                  </a:lnTo>
                  <a:lnTo>
                    <a:pt x="203" y="3310"/>
                  </a:lnTo>
                  <a:lnTo>
                    <a:pt x="275" y="3329"/>
                  </a:lnTo>
                  <a:lnTo>
                    <a:pt x="393" y="3353"/>
                  </a:lnTo>
                  <a:lnTo>
                    <a:pt x="476" y="3360"/>
                  </a:lnTo>
                  <a:lnTo>
                    <a:pt x="572" y="3366"/>
                  </a:lnTo>
                  <a:lnTo>
                    <a:pt x="843" y="3373"/>
                  </a:lnTo>
                  <a:lnTo>
                    <a:pt x="914" y="3374"/>
                  </a:lnTo>
                  <a:lnTo>
                    <a:pt x="1013" y="3362"/>
                  </a:lnTo>
                  <a:lnTo>
                    <a:pt x="1131" y="3342"/>
                  </a:lnTo>
                  <a:lnTo>
                    <a:pt x="1262" y="3316"/>
                  </a:lnTo>
                  <a:lnTo>
                    <a:pt x="1371" y="3291"/>
                  </a:lnTo>
                  <a:lnTo>
                    <a:pt x="1466" y="3268"/>
                  </a:lnTo>
                  <a:lnTo>
                    <a:pt x="1551" y="3246"/>
                  </a:lnTo>
                  <a:lnTo>
                    <a:pt x="1663" y="3207"/>
                  </a:lnTo>
                  <a:lnTo>
                    <a:pt x="1793" y="3158"/>
                  </a:lnTo>
                  <a:lnTo>
                    <a:pt x="2153" y="3011"/>
                  </a:lnTo>
                  <a:lnTo>
                    <a:pt x="2242" y="2973"/>
                  </a:lnTo>
                  <a:lnTo>
                    <a:pt x="2342" y="2923"/>
                  </a:lnTo>
                  <a:lnTo>
                    <a:pt x="2449" y="2865"/>
                  </a:lnTo>
                  <a:lnTo>
                    <a:pt x="2644" y="2754"/>
                  </a:lnTo>
                  <a:lnTo>
                    <a:pt x="2762" y="2684"/>
                  </a:lnTo>
                  <a:lnTo>
                    <a:pt x="2818" y="2645"/>
                  </a:lnTo>
                  <a:lnTo>
                    <a:pt x="2876" y="2601"/>
                  </a:lnTo>
                  <a:lnTo>
                    <a:pt x="2935" y="2555"/>
                  </a:lnTo>
                  <a:lnTo>
                    <a:pt x="3010" y="2503"/>
                  </a:lnTo>
                  <a:lnTo>
                    <a:pt x="3095" y="2448"/>
                  </a:lnTo>
                  <a:lnTo>
                    <a:pt x="3187" y="2390"/>
                  </a:lnTo>
                  <a:lnTo>
                    <a:pt x="3251" y="2346"/>
                  </a:lnTo>
                  <a:lnTo>
                    <a:pt x="3331" y="2279"/>
                  </a:lnTo>
                  <a:lnTo>
                    <a:pt x="3356" y="2241"/>
                  </a:lnTo>
                  <a:lnTo>
                    <a:pt x="3393" y="2150"/>
                  </a:lnTo>
                  <a:lnTo>
                    <a:pt x="3415" y="2074"/>
                  </a:lnTo>
                  <a:lnTo>
                    <a:pt x="3428" y="1997"/>
                  </a:lnTo>
                  <a:lnTo>
                    <a:pt x="3431" y="1945"/>
                  </a:lnTo>
                  <a:lnTo>
                    <a:pt x="3433" y="1887"/>
                  </a:lnTo>
                  <a:lnTo>
                    <a:pt x="3429" y="1797"/>
                  </a:lnTo>
                  <a:lnTo>
                    <a:pt x="3413" y="1698"/>
                  </a:lnTo>
                  <a:lnTo>
                    <a:pt x="3376" y="1537"/>
                  </a:lnTo>
                  <a:lnTo>
                    <a:pt x="3344" y="1442"/>
                  </a:lnTo>
                  <a:lnTo>
                    <a:pt x="3304" y="1340"/>
                  </a:lnTo>
                  <a:lnTo>
                    <a:pt x="3161" y="1007"/>
                  </a:lnTo>
                  <a:lnTo>
                    <a:pt x="3118" y="923"/>
                  </a:lnTo>
                  <a:lnTo>
                    <a:pt x="3065" y="826"/>
                  </a:lnTo>
                  <a:lnTo>
                    <a:pt x="2953" y="636"/>
                  </a:lnTo>
                  <a:lnTo>
                    <a:pt x="2866" y="494"/>
                  </a:lnTo>
                  <a:lnTo>
                    <a:pt x="2798" y="411"/>
                  </a:lnTo>
                  <a:lnTo>
                    <a:pt x="2713" y="317"/>
                  </a:lnTo>
                  <a:lnTo>
                    <a:pt x="2275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hines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56536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1700280"/>
            <a:ext cx="58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hinese came from China to Australia to dig for gold unfortunately the people from other countries were really harsh to the Chinese because they were sm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2840" y="4581360"/>
            <a:ext cx="1157040" cy="148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103480" y="4292640"/>
            <a:ext cx="1285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ere smart whereas the other people were jealous because the Chinese were so smart and they gained more money then the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43160" y="4076640"/>
            <a:ext cx="136512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4292640"/>
            <a:ext cx="1706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ate damper a lot, the Chinese also found vegetables which were very rare, some Chinese wasted there money on rum or other money wasting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60036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149720"/>
            <a:ext cx="2519280" cy="205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549360"/>
            <a:ext cx="3600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ore baggy pants normal shirts and hats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y looked very different to the other miners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149720"/>
            <a:ext cx="139860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221000"/>
            <a:ext cx="11919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used normal tools like picks shovels and cradles, but they mostly used to buy items and sell them for more then they bought it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292640"/>
            <a:ext cx="257976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41497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4724280"/>
            <a:ext cx="157644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ese walked but others had carriages or donkeys or horses for the richer who were more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014720"/>
            <a:ext cx="2236680" cy="121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1774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gold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are some of the gold found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1943280" cy="13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005360"/>
            <a:ext cx="143352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2852640"/>
            <a:ext cx="1803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prov.vic.gov.au/forgottenfaces/images/Steamer.jpg&amp;imgrefurl=http://www.prov.vic.gov.au/forgottenfaces/goldfields.asp&amp;usg=__14VcG1-LtsugzNliCdEKGK1WaZU=&amp;h=321&amp;w=250&amp;sz=42&amp;hl=en&amp;start=1&amp;zoom=1&amp;itbs=1&amp;tbnid=iOuFXdpBLbr7TM:&amp;tbnh=118&amp;tbnw=92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cultureandrecreation.gov.au/articles/goldrush/images/chinesegold1.jpg&amp;imgrefurl=http://www.cultureandrecreation.gov.au/articles/goldrush/&amp;usg=__Glhk1wNOFTWOX64Dd8SYMakmKP8=&amp;h=183&amp;w=150&amp;sz=5&amp;hl=en&amp;start=6&amp;zoom=1&amp;itbs=1&amp;tbnid=VTWL5JwxcEUzpM:&amp;tbnh=102&amp;tbnw=84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homepages.ihug.co.nz/~tonyf/gold/chinese.jpg&amp;imgrefurl=http://homepages.ihug.co.nz/~tonyf/gold/strike.html&amp;usg=__6lk9FYuPT55JriOugPhHly35ML4=&amp;h=560&amp;w=402&amp;sz=17&amp;hl=en&amp;start=12&amp;zoom=1&amp;itbs=1&amp;tbnid=k91I0BN17vUnjM:&amp;tbnh=133&amp;tbnw=95&amp;prev=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kidcyber.com.au/IMAGES/goldrushchinese_jupiter.jpg&amp;imgrefurl=http://www.kidcyber.com.au/topics/goldchinese.htm&amp;usg=__VSMmxia8eS5OWN7VhYDqqy4gB88=&amp;h=827&amp;w=488&amp;sz=284&amp;hl=en&amp;start=3&amp;zoom=1&amp;itbs=1&amp;tbnid=n0pvHnud3CFW6M:&amp;tbnh=144&amp;tbnw=85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kidcyber.com.au/IMAGES/chinesemen.jpg&amp;imgrefurl=http://www.kidcyber.com.au/topics/goldchinese.htm&amp;usg=__HV9_BRA2Ix1CZBlemUBUXL2AoV0=&amp;h=191&amp;w=256&amp;sz=17&amp;hl=en&amp;start=2&amp;zoom=1&amp;itbs=1&amp;tbnid=EGbpq0CN4yNbYM:&amp;tbnh=83&amp;tbnw=111&amp;prev=/images%3Fq%3Dchinese%2Bon%2Bthe%2Bgoldfields%26hl%3Den%26safe%3Dactive%26sa%3DN%26gbv%3D2%26ndsp%3D20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heathersanimatio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2:56Z</dcterms:created>
  <dc:creator>matthew_george</dc:creator>
  <dc:description/>
  <dc:language>en-US</dc:language>
  <cp:lastModifiedBy>matthew_george</cp:lastModifiedBy>
  <dcterms:modified xsi:type="dcterms:W3CDTF">2010-09-20T03:11:57Z</dcterms:modified>
  <cp:revision>11</cp:revision>
  <dc:subject/>
  <dc:title>Chinese on the goldfields</dc:title>
</cp:coreProperties>
</file>